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318-F0A2-4E37-B184-E8CF4F08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CDF-7D6D-4BFA-A7A3-AAA86472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4BD-9C6E-4C47-8750-216632A7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D2C-1856-41DD-9690-8F833589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086-9171-4C3B-A572-4AF60AE9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9ED-FB64-4C9B-9CE7-FBD82CC4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202-4F05-4330-8EDA-D1CE9ACB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6CF-0839-4F5F-BC9F-87912444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9D2-0AE1-42B1-A485-0CF996F5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658-1215-423C-B5C0-2FB628C3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76A-54FE-4E63-9388-719C9A42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0BA-2B5D-475D-AC9C-771C639F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AE46-D5F0-4ADF-B6DB-EBA4493CF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Δομή και Οργάνωση της Ερευνητικής Εργασίας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5120" y="920880"/>
            <a:ext cx="9229680" cy="6572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2240" y="194760"/>
            <a:ext cx="90550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Δομή και Οργάνωση της Ερευνητικής Εργασία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